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E03-FEFE-4E53-87A8-978463BF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86D-2388-4F41-AAAA-2E272B1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DB6-542D-46CD-925A-36B32F8E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0AE-3CD2-416E-9B60-38289D53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0AB-C275-4A37-9C57-727F58C3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531-CF64-4D02-8E0F-A20E528F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A16-5D0E-43E3-BBAF-55F9AA5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EE0-CB42-44B7-B035-1FA704F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448-D5FE-4289-85B4-A83850B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F95-CDC0-449B-AFA0-8560D4B8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69D-0EBE-4E87-BFCA-F691CF0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938-4251-4750-8707-629C7EF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7E4-34E7-4A05-8BE8-60797FC0B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eppers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ccff33"/>
            </a:gs>
            <a:gs pos="100000">
              <a:srgbClr val="ff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25312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0"/>
            <a:ext cx="78487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ccff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oadway"/>
              </a:rPr>
              <a:t>Popsicl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ccff3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  <p:pic>
        <p:nvPicPr>
          <p:cNvPr id="43" name="" descr="Epperson"/>
          <p:cNvPicPr/>
          <p:nvPr/>
        </p:nvPicPr>
        <p:blipFill>
          <a:blip r:embed="rId1"/>
          <a:stretch/>
        </p:blipFill>
        <p:spPr>
          <a:xfrm>
            <a:off x="228600" y="4172040"/>
            <a:ext cx="1828800" cy="26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623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525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Epperson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16765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Bauhaus 93"/>
              </a:rPr>
              <a:t>Lemelsons MIT Progra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Bauhaus 93"/>
              </a:rPr>
              <a:t>The Popsic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Bauhaus 93"/>
              </a:rPr>
              <a:t>January 11, 2011,</a:t>
            </a:r>
            <a:r>
              <a:rPr b="0" lang="en-US" sz="24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eppers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4419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Bauhaus 93"/>
              </a:rPr>
              <a:t>The Popsicles are almost 100 years o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odoni MT Black"/>
              </a:rPr>
              <a:t>Invention: Popsic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In the 1925 the popsicle rights were sold to the Joe Lowe company in New York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Children thought of the name Po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The sticks were made of Birch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odoni MT Black"/>
              </a:rPr>
              <a:t>The model was made with two sticks for children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auhaus 93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e invented the popsicle when he was only 11 years 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e born in 1884 and raised in San Frans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More then 18 years later ,in 1923 he apply for a patent on his frozen t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e called it the “Eppsicle ice pop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auhaus 93"/>
              </a:rPr>
              <a:t>His children called it the po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5Z</dcterms:created>
  <dc:creator>install</dc:creator>
  <dc:description/>
  <dc:language>en-US</dc:language>
  <cp:lastModifiedBy>install</cp:lastModifiedBy>
  <dcterms:modified xsi:type="dcterms:W3CDTF">2011-01-14T17:10:56Z</dcterms:modified>
  <cp:revision>9</cp:revision>
  <dc:subject/>
  <dc:title>Slide 1</dc:title>
</cp:coreProperties>
</file>